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445E-8A6C-42B3-A84B-828B7E742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9D22-3113-4EB6-BCF2-E2C98243C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642B-75CC-49B4-837E-069021448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1A95-9E4D-4BB1-8532-4E74EF38D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9D16-063D-452B-A3EA-D6E5B4B32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B31F-10A2-4CB8-88EB-3E6C95E15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EBD7-112A-4C4E-B9B3-AC9758548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4057-EBB1-4A5D-9A22-DC8DB6E26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7752-B274-452F-8A4A-6277084DF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558F-5354-4891-8B8C-2F7CE835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688C-27A8-473F-8B6C-6E10ACA8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3D51-051A-4BE5-8EFE-864846A3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A527C-EDF4-41C1-936A-55D15BB0F3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Documents and Settings\wanda.williams\My Documents\My Pictures\Microsoft Clip Organizer\j032374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764400"/>
          </a:xfrm>
          <a:prstGeom prst="rect">
            <a:avLst/>
          </a:prstGeom>
          <a:ln w="0">
            <a:noFill/>
          </a:ln>
        </p:spPr>
      </p:pic>
      <p:sp>
        <p:nvSpPr>
          <p:cNvPr id="42" name="AutoShape 2"/>
          <p:cNvSpPr/>
          <p:nvPr/>
        </p:nvSpPr>
        <p:spPr>
          <a:xfrm rot="16200000">
            <a:off x="4197960" y="2654640"/>
            <a:ext cx="4729320" cy="3676680"/>
          </a:xfrm>
          <a:prstGeom prst="flowChartDelay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a5a5a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ngravers MT"/>
              </a:rPr>
              <a:t>Here lies ebenezer scroo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ngravers MT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Engravers MT"/>
              </a:rPr>
              <a:t>Old scratch got his own at last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Engravers MT"/>
              </a:rPr>
              <a:t>r.i.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C:\Documents and Settings\wanda.williams\Local Settings\Temporary Internet Files\Content.IE5\LX2YN4OC\MCBD07752_0000[1].wmf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2"/>
          <p:cNvSpPr/>
          <p:nvPr/>
        </p:nvSpPr>
        <p:spPr>
          <a:xfrm rot="16200000">
            <a:off x="5295600" y="3009600"/>
            <a:ext cx="3810240" cy="3124440"/>
          </a:xfrm>
          <a:prstGeom prst="flowChartDelay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a5a5a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ngravers MT"/>
              </a:rPr>
              <a:t>Here lies ebenezer scroo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Engravers MT"/>
              </a:rPr>
              <a:t>“</a:t>
            </a:r>
            <a:r>
              <a:rPr b="1" lang="en-US" sz="1500" spc="-1" strike="noStrike">
                <a:solidFill>
                  <a:srgbClr val="000000"/>
                </a:solidFill>
                <a:latin typeface="Engravers MT"/>
              </a:rPr>
              <a:t>Why bless my soul, who’s that?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Engravers MT"/>
              </a:rPr>
              <a:t>R.I.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9:25:11Z</dcterms:created>
  <dc:creator>wanda.williams</dc:creator>
  <dc:description/>
  <dc:language>en-US</dc:language>
  <cp:lastModifiedBy>Josh McCullough</cp:lastModifiedBy>
  <dcterms:modified xsi:type="dcterms:W3CDTF">2011-12-02T01:31:56Z</dcterms:modified>
  <cp:revision>8</cp:revision>
  <dc:subject/>
  <dc:title>Slide 1</dc:title>
</cp:coreProperties>
</file>